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37.jpeg" ContentType="image/jpeg"/>
  <Override PartName="/ppt/media/image43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B398-37B1-430B-9A8B-6CB465BB5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91F2-A0B0-415B-B9EF-44799DDC8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5BB3-A0C6-4D1E-A2ED-8AA529632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EF9-0B3E-48E9-A711-C77C6DAC5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E28E-30BB-47A1-9188-9C7550593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2CCD-967C-4C9A-8EFD-03E7AD229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35D3-ED27-49A0-9DF9-7430C88A6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B962-255D-4186-84AA-77F32E2B9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6A07-231B-44E1-A911-6DB135E08E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E5E1-CDAF-44D0-98AC-1EFC2A6AEC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0E71-81F5-4DC9-9461-D408EC772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CDDF-7308-42C3-ABF3-9F6D3969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E403-3960-4444-91A7-D3F8E661B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B7D7-C9FF-457E-9C3C-7EA8FB47A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22F-DF69-4E80-9875-BA2A11B2B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32F8-4EC4-4812-8E90-8B8445FCA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F32-2534-4F90-AA8E-BF9E4B269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6061-9520-45CE-B775-C23E7001B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A7F5-5662-46F6-B250-0AC1E7623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1C33-AA86-434D-ADC6-F21CBBEED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003C-75EE-4F44-869A-678C8BF59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EF50-EF12-47FC-B343-A6B51DC78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1EFD-E73C-4861-AE01-D3EF34A5E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C3E5-AA54-429B-9D55-4D099B4C7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B26D-1076-457A-A45B-19FED7880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7DBF-98AE-4F0F-AAF3-C9F43BE51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374D-326C-4FB6-817F-994C1224F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8E82-1041-437A-90D5-3C2874943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4558-9E58-4C77-896D-7558E5AD0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D0F2-3EF5-4BB4-A137-1BA53EAAA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A4B6-EEA0-4503-BD94-9DB319443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6642-5140-4EB7-BD41-10CFA98F8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E8ED-2C71-47AC-8CB2-E8D21E9D2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B44D-3766-4FDE-A5E4-978DB546E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4E4C-996D-4D33-AA39-471E61AAA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B3F3-B65F-45C2-9482-F44B8FCC6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0870-EDF1-4FCF-9985-576C5B864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E60D-DCF0-414C-8A5E-DA9E43DCA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5D20-A144-478B-B7AB-EA0C6E319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0756-8CF5-4846-AAE4-50FBEA5C9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AB74-5D37-4BE7-8B58-6A0EF14E1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20F-92BB-41F5-B8F4-B7F330984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EC45-36F0-438A-9488-80177540C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E391-8467-4CD7-A561-EC6367F39BE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DAC-3272-4938-9E6E-B0FC4441C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9C78-F00F-41C7-9477-7632A627FA0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5EEA-0D06-48E9-B9EF-F5F9004A5C4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1C70-FE39-436B-BA60-D96FAD6AB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B460-6D50-47C8-B59F-F4CB60F28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46B9-3F4C-485E-8E3F-6857BF1CE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8C0C-3187-4CFA-BBE6-31B578624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9792-4620-473A-9DDD-FDBBCC872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150B-451F-43EB-BF78-E624C974C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5F0C-862D-4455-8962-E310107BD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E11-95BE-458E-821E-21FA0600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3E9-2BD7-4DA6-9FAE-C12DCF6C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10C-D368-4B1E-8BB8-705EBD8D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EA1-5BCB-4E74-AB6D-9C6027D6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7688-5809-4F47-AB22-C26F831D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170-D44D-4BAA-BF22-C6AF280E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F984-C3E6-4F76-8765-6FFA6DC9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2F73-80B2-4A1E-AD6B-D87BBD34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2DCD-F14E-4DAC-B4A1-8C82E3C2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AE56-24BE-4334-96C5-8883DEE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0ABE-A189-4FDA-A438-7CDB0D2E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5F8-1556-4435-BC37-C20A6846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FD38-75A4-4F8E-B33D-1176A5F4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CF28-1DC5-444D-B4F3-DA2938F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6F00-55F4-4A82-BA6E-D99D230F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5198-545B-4D88-B75F-B53A0717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B3A2-BA13-4D05-9A65-FE11CD7D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596E3-FFC9-43AA-A735-59F79D86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D2FAB-7361-49FF-A72C-D4EEE03C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4A248-549D-484A-83C7-939AD81E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B0320-53D1-491D-9576-0693E34F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FBDD4-306B-4A38-ABE9-58980001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CE0-B286-46B1-8DFC-3990C9AF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B9BB2-7808-40A0-9283-F1F85A6F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55AF2-0CB7-4EB2-95ED-A4C5BDE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1A4C5-DFB7-4798-AA59-08D6F0D3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F2EB8-9D36-4AAA-910B-DB96197F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4C68B-068F-45DC-8222-99C9505C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B80D6-536E-4DCE-AC0E-FD71221C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DF3FF-0B68-4D95-8238-8C3E515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982-EE9D-4EE0-987C-EC1A01DC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DA9-9704-41CE-BB38-0BEA69C1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7D4-6338-4A4E-8B93-4EA53F88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F7A-3A31-47C1-AF17-46687AC1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12A-1A70-47C2-9397-8F82D304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49A-3C53-4474-8396-3D5D8510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8794-A4C7-4118-ADDF-DEB6B5D24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367-6900-473C-BA42-9376908B4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80B2-0BA3-4ED7-8FCB-DCA68F6BD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eltx.com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bbc.co.uk/wales/audiovideo/sites/about/pages/howto.shtml" TargetMode="External"/><Relationship Id="rId2" Type="http://schemas.openxmlformats.org/officeDocument/2006/relationships/hyperlink" Target="http://www.digi-tale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Enhancing Writing &amp; Creativity through I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63244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ren.yager@det.nsw.edu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28600" y="228600"/>
            <a:ext cx="2286000" cy="52056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895480" y="228600"/>
            <a:ext cx="175284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029200" y="228600"/>
            <a:ext cx="137160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6781680" y="228600"/>
            <a:ext cx="213372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7"/>
          <p:cNvSpPr/>
          <p:nvPr/>
        </p:nvSpPr>
        <p:spPr>
          <a:xfrm>
            <a:off x="2590920" y="3808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8"/>
          <p:cNvSpPr/>
          <p:nvPr/>
        </p:nvSpPr>
        <p:spPr>
          <a:xfrm>
            <a:off x="4724280" y="38088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9"/>
          <p:cNvSpPr/>
          <p:nvPr/>
        </p:nvSpPr>
        <p:spPr>
          <a:xfrm>
            <a:off x="6477120" y="3808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det-nsr-logo.jpg"/>
          <p:cNvPicPr/>
          <p:nvPr/>
        </p:nvPicPr>
        <p:blipFill>
          <a:blip r:embed="rId2"/>
          <a:stretch/>
        </p:blipFill>
        <p:spPr>
          <a:xfrm>
            <a:off x="7238880" y="5840280"/>
            <a:ext cx="16002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Title 4"/>
          <p:cNvGrpSpPr/>
          <p:nvPr/>
        </p:nvGrpSpPr>
        <p:grpSpPr>
          <a:xfrm>
            <a:off x="158760" y="189000"/>
            <a:ext cx="3949560" cy="847800"/>
            <a:chOff x="158760" y="189000"/>
            <a:chExt cx="3949560" cy="847800"/>
          </a:xfrm>
        </p:grpSpPr>
        <p:pic>
          <p:nvPicPr>
            <p:cNvPr id="171" name="Title 4" descr=""/>
            <p:cNvPicPr/>
            <p:nvPr/>
          </p:nvPicPr>
          <p:blipFill>
            <a:blip r:embed="rId1"/>
            <a:stretch/>
          </p:blipFill>
          <p:spPr>
            <a:xfrm>
              <a:off x="158760" y="189000"/>
              <a:ext cx="3949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28600" y="349200"/>
              <a:ext cx="38098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Calibri"/>
                </a:rPr>
                <a:t>CREATIVITY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Content Placeholder 3" descr="Picture2.pn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generating many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LEXI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hifting perspective eas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RIGINA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conceiving something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URPOSE- Vi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UDIENCE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LABOR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building on other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VALUAT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tical ref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Title 1"/>
          <p:cNvGrpSpPr/>
          <p:nvPr/>
        </p:nvGrpSpPr>
        <p:grpSpPr>
          <a:xfrm>
            <a:off x="219240" y="219240"/>
            <a:ext cx="4060800" cy="860400"/>
            <a:chOff x="219240" y="219240"/>
            <a:chExt cx="4060800" cy="860400"/>
          </a:xfrm>
        </p:grpSpPr>
        <p:pic>
          <p:nvPicPr>
            <p:cNvPr id="176" name="Title 1" descr=""/>
            <p:cNvPicPr/>
            <p:nvPr/>
          </p:nvPicPr>
          <p:blipFill>
            <a:blip r:embed="rId1"/>
            <a:stretch/>
          </p:blipFill>
          <p:spPr>
            <a:xfrm>
              <a:off x="219240" y="219240"/>
              <a:ext cx="4060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28600" y="22860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Creativit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286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e questions or state learning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 explicitly the skills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open-ended, authentic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risk-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1914296-2-imagine-creativity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4572000" cy="109692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ICT &amp; Writ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denc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lling and hand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cabula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onyms,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inemen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diting, spell check, peer marking,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ativit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mages, sound, video clip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penguin%20reflection%202.jpg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mproving Wri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o improve the quality of student writing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xplicitly and systematically teach the structure and language demands of the writing task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cus on audience and purpose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xplicitly teach the thinking processes involved in writing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mmerse students in examples of the required style of writing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odel and jointly construct texts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Use guided and independent practice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mploy peer and self reflection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3962160" cy="762120"/>
          </a:xfrm>
          <a:prstGeom prst="rect">
            <a:avLst/>
          </a:prstGeom>
          <a:solidFill>
            <a:srgbClr val="e86e5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1066320"/>
            <a:ext cx="4114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rt with concepts not texts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haracteris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ntextualis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Narrative Voic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aft or Artistr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ppropri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ybridit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pck2017.jp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940120" y="228600"/>
            <a:ext cx="3429000" cy="49212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pic/Subject/Context/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09680" y="949320"/>
            <a:ext cx="5257800" cy="498600"/>
          </a:xfrm>
          <a:prstGeom prst="rect">
            <a:avLst/>
          </a:prstGeom>
          <a:solidFill>
            <a:srgbClr val="c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ept + Key Question or Essential Learning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rching idea of the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(Deep knowledg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80880" y="1523880"/>
            <a:ext cx="2286000" cy="10256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Ideas +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at students will learn by the end of the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ep knowled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657600" y="1676520"/>
            <a:ext cx="2286000" cy="9903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Ideas +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lect intent of the outcomes and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ep knowled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26320" y="1749600"/>
            <a:ext cx="2165400" cy="79992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Ideas +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ep knowled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11040" y="2819520"/>
            <a:ext cx="8680680" cy="76176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comes and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ep understanding, Problematic knowledge, Higher-order thinking, Explicit quality crite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monstration of key learning ideas - Not too man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11040" y="3692520"/>
            <a:ext cx="8832960" cy="4986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testing/Pre-assessmen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Background knowledge - connections to prior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ainstorming, Graphic organisers – KWL, mind mapping, Y chart, Lotus diagram. 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5568840" y="5521320"/>
            <a:ext cx="2286000" cy="879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ffolds / Models – 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2254320" y="5521320"/>
            <a:ext cx="2286000" cy="879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ed &amp; Scaffol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311040" y="4425840"/>
            <a:ext cx="1898640" cy="12128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plicit / Syste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ilding th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3740040" y="4413240"/>
            <a:ext cx="2286000" cy="9939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plicit Literacy &amp; Numeracy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6781680" y="4419720"/>
            <a:ext cx="2057400" cy="9698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d 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4654440" y="720720"/>
            <a:ext cx="222480" cy="193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4648320" y="1447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6"/>
          <p:cNvSpPr/>
          <p:nvPr/>
        </p:nvSpPr>
        <p:spPr>
          <a:xfrm>
            <a:off x="4724280" y="4191120"/>
            <a:ext cx="190800" cy="23472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 rot="3421800">
            <a:off x="2794320" y="1551600"/>
            <a:ext cx="255600" cy="422280"/>
          </a:xfrm>
          <a:prstGeom prst="downArrow">
            <a:avLst>
              <a:gd name="adj1" fmla="val 50000"/>
              <a:gd name="adj2" fmla="val 413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8"/>
          <p:cNvSpPr/>
          <p:nvPr/>
        </p:nvSpPr>
        <p:spPr>
          <a:xfrm rot="18481800">
            <a:off x="6337080" y="1552320"/>
            <a:ext cx="255600" cy="420840"/>
          </a:xfrm>
          <a:prstGeom prst="downArrow">
            <a:avLst>
              <a:gd name="adj1" fmla="val 50000"/>
              <a:gd name="adj2" fmla="val 411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9"/>
          <p:cNvSpPr/>
          <p:nvPr/>
        </p:nvSpPr>
        <p:spPr>
          <a:xfrm>
            <a:off x="4722840" y="3581280"/>
            <a:ext cx="154080" cy="152640"/>
          </a:xfrm>
          <a:prstGeom prst="downArrow">
            <a:avLst>
              <a:gd name="adj1" fmla="val 50000"/>
              <a:gd name="adj2" fmla="val 49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/>
          <p:cNvSpPr/>
          <p:nvPr/>
        </p:nvSpPr>
        <p:spPr>
          <a:xfrm>
            <a:off x="1066680" y="4191120"/>
            <a:ext cx="214560" cy="234720"/>
          </a:xfrm>
          <a:prstGeom prst="downArrow">
            <a:avLst>
              <a:gd name="adj1" fmla="val 50000"/>
              <a:gd name="adj2" fmla="val 498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1"/>
          <p:cNvSpPr/>
          <p:nvPr/>
        </p:nvSpPr>
        <p:spPr>
          <a:xfrm>
            <a:off x="7772400" y="4191120"/>
            <a:ext cx="190440" cy="23472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3048120" y="4267080"/>
            <a:ext cx="190440" cy="1067040"/>
          </a:xfrm>
          <a:prstGeom prst="downArrow">
            <a:avLst>
              <a:gd name="adj1" fmla="val 50000"/>
              <a:gd name="adj2" fmla="val 2501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>
            <a:off x="6400800" y="4267080"/>
            <a:ext cx="190440" cy="1143000"/>
          </a:xfrm>
          <a:prstGeom prst="downArrow">
            <a:avLst>
              <a:gd name="adj1" fmla="val 50000"/>
              <a:gd name="adj2" fmla="val 250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1066680" y="2514600"/>
            <a:ext cx="228600" cy="304920"/>
          </a:xfrm>
          <a:prstGeom prst="upDownArrow">
            <a:avLst>
              <a:gd name="adj1" fmla="val 50000"/>
              <a:gd name="adj2" fmla="val 4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7772400" y="2514600"/>
            <a:ext cx="228600" cy="304920"/>
          </a:xfrm>
          <a:prstGeom prst="upDownArrow">
            <a:avLst>
              <a:gd name="adj1" fmla="val 50000"/>
              <a:gd name="adj2" fmla="val 4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2482920" y="6435720"/>
            <a:ext cx="4800600" cy="34308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ch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4800600" y="56386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5"/>
          <p:cNvSpPr/>
          <p:nvPr/>
        </p:nvSpPr>
        <p:spPr>
          <a:xfrm>
            <a:off x="4724280" y="2590920"/>
            <a:ext cx="152640" cy="228600"/>
          </a:xfrm>
          <a:prstGeom prst="upDownArrow">
            <a:avLst>
              <a:gd name="adj1" fmla="val 50000"/>
              <a:gd name="adj2" fmla="val 399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0" y="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do the students need to lear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y does it ma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do they already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 I want the students to do or produce to demonstrate their  learning and understan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ow will they get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well do I expect them to do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Qualit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50104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Programming with DER: Stage 5 Englis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840" y="1599840"/>
            <a:ext cx="8572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SW English Stage 5 Outcomes: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, 4 &amp;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aplan Data: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udience and structure noted as a concer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HSC Feedback: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ys struggling with Paper Section II - Writ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oncept: Craft: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qualities of an effective narrative – “Stories are the lifeblood of a nation” (Garth Boomer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Key Question: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How do we craft a narrative that is engaging and affective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Key Ideas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he power of imagery and figurative devices in writing to engage and move the reader – “Words are like ants...nothing can penetrate into the cracks and gaps of life as thoroughly or as fast as words can” (Orhan Pamuk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How the structure of a narrative can enhance the quality of a narrativ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he importance of close edit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4200" y="228240"/>
            <a:ext cx="8501040" cy="106668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Programming with DER: Stage 5 Englis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4200" y="1447560"/>
            <a:ext cx="8624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esson delivery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notes, hyperlinks and sample digital narratives in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One No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arrative typed in word and all editing done through spell check, synonym check (right click on the word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rafts uploaded to class wiki or blog for peer comm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tudents access online module on how to use Premier, Word or Power Point to make digital narratives  (can be already loaded to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One Not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rom TaL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9446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riting and I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Stories now are open-ended, branching, hyperlinked, cross-media, participatory, exploratory, and unpredictable. And they are told in new ways: Web 2.0 storytelling picks up these new types of stories and runs with them, accelerating the pace of creation and participation while revealing new directions for narratives to flow”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(BRYAN ALEXANDER AND ALAN LEVIN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56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stralian schooling promotes equity and excellence: promote personalised learning that aims to fulfill the diverse capabilities of each young Australi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young Australians be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dent and creative indiv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and informed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 Go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142920"/>
            <a:ext cx="3733920" cy="9288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gital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gital tim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ife-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pod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e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u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gital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w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avel tale: Google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suitcase-girl_7529636_250%20image_tcm2-12431"/>
          <p:cNvPicPr/>
          <p:nvPr/>
        </p:nvPicPr>
        <p:blipFill>
          <a:blip r:embed="rId1"/>
          <a:stretch/>
        </p:blipFill>
        <p:spPr>
          <a:xfrm>
            <a:off x="4051440" y="0"/>
            <a:ext cx="509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114800" cy="868320"/>
          </a:xfrm>
          <a:prstGeom prst="rect">
            <a:avLst/>
          </a:prstGeom>
          <a:gradFill rotWithShape="0">
            <a:gsLst>
              <a:gs pos="0">
                <a:srgbClr val="96c1c1"/>
              </a:gs>
              <a:gs pos="100000">
                <a:srgbClr val="e1ebe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very community has a memory of itself.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 living memory, an awareness of a collective identity woven of a thousand stories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aft or artis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ybrid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rrative Voi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2345232195_17a7f58d6c.jpg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4"/>
          <p:cNvSpPr/>
          <p:nvPr/>
        </p:nvSpPr>
        <p:spPr>
          <a:xfrm>
            <a:off x="4572000" y="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rratives for the futu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190760" cy="71604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Students create a fold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Craft the text – word limit!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Storyboar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Find or shoot the images that enhance the text or film the tex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Record reading of text on MP3 or microphon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Download any sounds or music or video clip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610x.jpg"/>
          <p:cNvPicPr/>
          <p:nvPr/>
        </p:nvPicPr>
        <p:blipFill>
          <a:blip r:embed="rId1"/>
          <a:stretch/>
        </p:blipFill>
        <p:spPr>
          <a:xfrm>
            <a:off x="4737240" y="0"/>
            <a:ext cx="4406760" cy="3200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born digital.jpg"/>
          <p:cNvPicPr/>
          <p:nvPr/>
        </p:nvPicPr>
        <p:blipFill>
          <a:blip r:embed="rId2"/>
          <a:stretch/>
        </p:blipFill>
        <p:spPr>
          <a:xfrm>
            <a:off x="4775040" y="320040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190760" cy="71604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micro-story: 30 – 50 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xtreme close-up on the word and then the sentenc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Focus on imagery and the ver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5 letter alphab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Focus on structure: subverting the narrative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610x.jpg"/>
          <p:cNvPicPr/>
          <p:nvPr/>
        </p:nvPicPr>
        <p:blipFill>
          <a:blip r:embed="rId1"/>
          <a:stretch/>
        </p:blipFill>
        <p:spPr>
          <a:xfrm>
            <a:off x="4737240" y="0"/>
            <a:ext cx="4406760" cy="3200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born digital.jpg"/>
          <p:cNvPicPr/>
          <p:nvPr/>
        </p:nvPicPr>
        <p:blipFill>
          <a:blip r:embed="rId2"/>
          <a:stretch/>
        </p:blipFill>
        <p:spPr>
          <a:xfrm>
            <a:off x="4775040" y="320040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716040"/>
          </a:xfrm>
          <a:prstGeom prst="rect">
            <a:avLst/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11430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Calibri"/>
              </a:rPr>
              <a:t>Students use a storyboard to plan story, transitions and effec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eltx.com/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easy to use free software that has outstanding storyboard models and scaffolds for stud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cartoon computer.bmp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632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artoon102.jpg"/>
          <p:cNvPicPr/>
          <p:nvPr/>
        </p:nvPicPr>
        <p:blipFill>
          <a:blip r:embed="rId3"/>
          <a:stretch/>
        </p:blipFill>
        <p:spPr>
          <a:xfrm>
            <a:off x="4121280" y="3657600"/>
            <a:ext cx="5022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020600"/>
          </a:xfrm>
          <a:prstGeom prst="rect">
            <a:avLst/>
          </a:prstGeom>
          <a:gradFill rotWithShape="0">
            <a:gsLst>
              <a:gs pos="0">
                <a:srgbClr val="b0cffb"/>
              </a:gs>
              <a:gs pos="100000">
                <a:srgbClr val="e6eff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bc.co.uk/wales/audiovideo/sites/about/pages/howto.sht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igi-tales.org/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photobus.co.uk/index.php?id=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changinglives.com.au/2008/04/abrar-autumn-and-i.html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http://www.dipity.com/ - Digital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4"/>
          <p:cNvSpPr/>
          <p:nvPr/>
        </p:nvSpPr>
        <p:spPr>
          <a:xfrm>
            <a:off x="1676520" y="1752480"/>
            <a:ext cx="56386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Calibri"/>
              </a:rPr>
              <a:t>NAPL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Calibri"/>
              </a:rPr>
              <a:t>&amp;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Calibri"/>
              </a:rPr>
              <a:t>the Digital Narrati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http://www.naplan.edu.au/verve/_resources/NAPLAN_banner5_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n criteri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dience: 0-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 structure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s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acter &amp; setting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cabulary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hesion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agraphing: 0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tence structure: 0-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nctuation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lling: 0- 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5" descr="Naplan_Story.jpg"/>
          <p:cNvPicPr/>
          <p:nvPr/>
        </p:nvPicPr>
        <p:blipFill>
          <a:blip r:embed="rId1"/>
          <a:stretch/>
        </p:blipFill>
        <p:spPr>
          <a:xfrm>
            <a:off x="4876920" y="1039680"/>
            <a:ext cx="4267080" cy="5818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www.naplan.edu.au/verve/_resources/NAPLAN_banner5_07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3581280" cy="94464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14475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, engage and affect the 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and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phistication: A twist, irony, subversion through the un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3" descr="001359_20.jpg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d for a specific purpose and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process with its planning, storyboarding and selecting images and sound continually forces students to consider the quality and impact of the digital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ng images and sound focuses students on the genre and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marking encourages a focus on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Title 1"/>
          <p:cNvGrpSpPr/>
          <p:nvPr/>
        </p:nvGrpSpPr>
        <p:grpSpPr>
          <a:xfrm>
            <a:off x="291960" y="219240"/>
            <a:ext cx="3835440" cy="963360"/>
            <a:chOff x="291960" y="219240"/>
            <a:chExt cx="3835440" cy="963360"/>
          </a:xfrm>
        </p:grpSpPr>
        <p:pic>
          <p:nvPicPr>
            <p:cNvPr id="144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19240"/>
              <a:ext cx="38354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04920" y="228600"/>
              <a:ext cx="3809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Consideratio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 txBox="1"/>
          <p:nvPr/>
        </p:nvSpPr>
        <p:spPr>
          <a:xfrm>
            <a:off x="304560" y="12949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1000" indent="-171000">
              <a:lnSpc>
                <a:spcPct val="95000"/>
              </a:lnSpc>
              <a:spcBef>
                <a:spcPts val="193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lobal skills required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7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r the 2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century workforce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itical thinking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roblem solving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novation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nnectivism through technolog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global.jp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Kids.jpg"/>
          <p:cNvPicPr/>
          <p:nvPr/>
        </p:nvPicPr>
        <p:blipFill>
          <a:blip r:embed="rId3"/>
          <a:stretch/>
        </p:blipFill>
        <p:spPr>
          <a:xfrm>
            <a:off x="4243320" y="3809880"/>
            <a:ext cx="490068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434340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lobal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05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ing writers to model effective writing. Such as Wint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otlight on aspects of writing: setting &amp; characteris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cro-st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ntence of the wee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king students to compose a narrative and then change its genre. E.g. Three little pigs, hyperlinked to a western version and then linked to a science fiction ver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er and self edi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ory boar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206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3886200" cy="868320"/>
          </a:xfrm>
          <a:prstGeom prst="rect">
            <a:avLst/>
          </a:prstGeom>
          <a:solidFill>
            <a:srgbClr val="fcd1b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sation of a narrativ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, complication, resolution, c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shback, different perspectives, circular, parallel, stream of consciousness, moral, 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4" descr="writing.png"/>
          <p:cNvPicPr/>
          <p:nvPr/>
        </p:nvPicPr>
        <p:blipFill>
          <a:blip r:embed="rId1"/>
          <a:stretch/>
        </p:blipFill>
        <p:spPr>
          <a:xfrm>
            <a:off x="4419720" y="1440"/>
            <a:ext cx="47242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13760" cy="868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aszynaAEG"/>
                <a:ea typeface="MaszynaAEG"/>
              </a:rPr>
              <a:t>The Basic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Content Placeholder 3" descr=""/>
          <p:cNvPicPr/>
          <p:nvPr/>
        </p:nvPicPr>
        <p:blipFill>
          <a:blip r:embed="rId1"/>
          <a:stretch/>
        </p:blipFill>
        <p:spPr>
          <a:xfrm>
            <a:off x="865080" y="1322280"/>
            <a:ext cx="741384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Brevity of narrative (300-word max.) and planning process highlights the significance of structur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hoosing images invites students to introduce a leitmotif or theme; especially if this is a component of the assessment task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 it encourages creativity , students are more likely to ‘play’ with the structur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d maps or a planning sheet for a narr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osing the same narrative with different complications and resolutions. In power point or word a hyperlink could be used for each change. (Choose your own adventure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osing the same narrative using a range of structures such as circular or two different perspec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essment task requires students to have a coda or significant message, and an unusual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3886200" cy="792000"/>
          </a:xfrm>
          <a:prstGeom prst="rect">
            <a:avLst/>
          </a:prstGeom>
          <a:solidFill>
            <a:srgbClr val="fcd1b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56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reation, selection and craf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orld view,  maturity, extended metaphor, satire, motif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grandpa_TVs_web.jpg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tipulated in assessment task that narrative must feature one or two significant ideas and at least one metaphor, motif or simile that reflects the idea/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ind maps where students suggest a range of topics and class brainstorms the significant ideas that ari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visit figurative devices and symbolis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 &amp;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380988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racter &amp; Set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82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rayal &amp; development of character;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a sense of time &amp;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phisticated: atmosphere, authentic dialogue,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red-tree-nobody-understands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haracteris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ialogue and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tion or in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diosyncra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alis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y move in their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erspectives and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04920" y="1371240"/>
            <a:ext cx="80755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C Moose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C Moose"/>
              </a:rPr>
              <a:t>Creating an uncomfortable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C Moose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C Moos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C Moos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520" y="2514600"/>
          <a:ext cx="8076960" cy="4132440"/>
        </p:xfrm>
        <a:graphic>
          <a:graphicData uri="http://schemas.openxmlformats.org/drawingml/2006/table">
            <a:tbl>
              <a:tblPr/>
              <a:tblGrid>
                <a:gridCol w="1616040"/>
                <a:gridCol w="1490400"/>
                <a:gridCol w="1552680"/>
                <a:gridCol w="1554120"/>
                <a:gridCol w="1863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Sm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Ta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Harsh light/dar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harp ed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Cool  col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tainless 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Flickering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heets of 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Ac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Heavy s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Vine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ickly 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Discordant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High or low pitched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Rumbling thu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Rasping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Hard tex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Extrem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cratchy coarse tex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Cold steel of a school b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Raised goosebu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tting &amp; the Atmosphere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Title 1"/>
          <p:cNvGrpSpPr/>
          <p:nvPr/>
        </p:nvGrpSpPr>
        <p:grpSpPr>
          <a:xfrm>
            <a:off x="291960" y="219240"/>
            <a:ext cx="3835440" cy="963360"/>
            <a:chOff x="291960" y="219240"/>
            <a:chExt cx="3835440" cy="963360"/>
          </a:xfrm>
        </p:grpSpPr>
        <p:pic>
          <p:nvPicPr>
            <p:cNvPr id="151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19240"/>
              <a:ext cx="38354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28600"/>
              <a:ext cx="3809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Consideratio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304560" y="12949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1000" indent="-17100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lity learning enables students t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amine and explo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rich and ext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ate and constru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e and sha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lect and evalu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global.jp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Kids.jpg"/>
          <p:cNvPicPr/>
          <p:nvPr/>
        </p:nvPicPr>
        <p:blipFill>
          <a:blip r:embed="rId3"/>
          <a:stretch/>
        </p:blipFill>
        <p:spPr>
          <a:xfrm>
            <a:off x="4243320" y="3809880"/>
            <a:ext cx="490068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434340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lobal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Atmosphere: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olour, symbolism and descriptions appropriate to genre and purpose  enhanced by use of graphics and images – focus on the senses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Characterisation: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ightness of digital narrative forces students to focus on the crafting of the characters’ dialogue and representation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://www.pamalam.co.uk/MUSIC/vocabulary%20abc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26708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nge &amp; precision of language cho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figurative and sound devices, powerful verbs, adverbs and adjectives, reflects the gen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unctuation &amp; Spell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curacy and precision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.g. direct speech and apostrophes used correct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phistication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.g. ellipsis, difficulty of words, such as: multisyllabic and foreign wo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 and grammar check, synonym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ohesion &amp; Digital Story 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nnecting, linking &amp; developing the narrativ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ophisticated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effective connectives, continuity of ideas, recurrent motif or them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Digital Storytelling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Focus on topic sentences, connectives and include as part of the assessment task the need for a leitmotif or them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0206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aragraphing &amp; Senten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ragraphing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gmenting of narr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berately drives the pace, topic sentences, varying paragraph length such as a single sentence paragrap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ntenc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und and meaningfu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xical density and variety of beginnings and length, such as: complex, simple, compoun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ssessment task must specify that the digital narrative includes figurative and sound devic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afting a narrative in 300-words encourages ‘showing’ not ‘telling’ as there is no room for boring detail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aurus and using Google word search encourages students to include sophisticated word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Vocabulary clines, word bingo, word meaning checklist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signac-feneon.SMALL.jpg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038840" cy="79200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witter 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51920" y="114264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ovels in 3 Lines: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ttp://twitter.com/novelsin3lines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vented by Fénéon, these miniaturized, epigrammatic texts are highly compressed, self-contained stori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be created easily using Twit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cuses students on crafting tight, evocative sent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419720" y="396252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ies applied with tweezers and delineated with a single-hair brush…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4191120" cy="716040"/>
          </a:xfrm>
          <a:prstGeom prst="rect">
            <a:avLst/>
          </a:prstGeom>
          <a:solidFill>
            <a:srgbClr val="558ed5"/>
          </a:solidFill>
          <a:ln w="9360">
            <a:solidFill>
              <a:srgbClr val="1f497d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alibri"/>
              </a:rPr>
              <a:t>Imaginative Engage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gle image, picture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 clips from Youtube or films: the trailers of films or a short clip from Australian Screen or Film Australia can be used to stimulate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Earth for real setting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0324_weekendaway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343400" cy="944640"/>
          </a:xfrm>
          <a:prstGeom prst="rect">
            <a:avLst/>
          </a:prstGeom>
          <a:solidFill>
            <a:srgbClr val="95b3d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Project-based learn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5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concep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ques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research: locate, evaluate and synthesis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robing ques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pposi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http://www.careglobalwarming.com/global-warming.jpg"/>
          <p:cNvPicPr/>
          <p:nvPr/>
        </p:nvPicPr>
        <p:blipFill>
          <a:blip r:embed="rId1"/>
          <a:stretch/>
        </p:blipFill>
        <p:spPr>
          <a:xfrm>
            <a:off x="4694400" y="0"/>
            <a:ext cx="444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http://www.greenfield.durham.sch.uk/images/shakespeare.gif"/>
          <p:cNvPicPr/>
          <p:nvPr/>
        </p:nvPicPr>
        <p:blipFill>
          <a:blip r:embed="rId1"/>
          <a:stretch/>
        </p:blipFill>
        <p:spPr>
          <a:xfrm>
            <a:off x="4572000" y="2454120"/>
            <a:ext cx="3238560" cy="3341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458200" cy="792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roject-based lear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p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people continue to reject Shakespeare’s pl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survey: http://www.zoomerang.com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x p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roduc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, Ning, Moodle, short film, digital repo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868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Calibri"/>
              </a:rPr>
              <a:t>21</a:t>
            </a:r>
            <a:r>
              <a:rPr b="1" lang="en-AU" sz="39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1" lang="en-AU" sz="3900" spc="-1" strike="noStrike">
                <a:solidFill>
                  <a:srgbClr val="ffffff"/>
                </a:solidFill>
                <a:latin typeface="Calibri"/>
              </a:rPr>
              <a:t> Century Pedagogy - Connectivism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Capacity to know more is more critical than what is currently know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Ability to see connections between fields, ideas, and concepts is a core ski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Learning is a process of connecting information sourc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Learning and knowledge rests in diversity of opinio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Learning may reside in non-human applianc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Decision-making is itself a learn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Currency (accurate, up-to-date knowledge) is the intent of all connectivist learning activ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Choosing what to learn and the meaning of incoming information is seen through the lens of a shifting rea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5480" y="277560"/>
            <a:ext cx="3857400" cy="788760"/>
          </a:xfrm>
          <a:prstGeom prst="rect">
            <a:avLst/>
          </a:prstGeom>
          <a:solidFill>
            <a:srgbClr val="ebd68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51920" y="1143000"/>
            <a:ext cx="4133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Digital representation of a Shakespearian sonnet or a character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urio box for a character in power point or Photostory accompanied by a recount or personal respons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Calibri"/>
              </a:rPr>
              <a:t>http://www.pbs.org/shakespeare/#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http://www.umass.edu/rso/guild/macbeth.jpg"/>
          <p:cNvPicPr/>
          <p:nvPr/>
        </p:nvPicPr>
        <p:blipFill>
          <a:blip r:embed="rId1"/>
          <a:stretch/>
        </p:blipFill>
        <p:spPr>
          <a:xfrm>
            <a:off x="4373640" y="0"/>
            <a:ext cx="4770360" cy="6858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http://brotherb.com/sitebuilder/images/Golden_Crown-760x613.jpg"/>
          <p:cNvPicPr/>
          <p:nvPr/>
        </p:nvPicPr>
        <p:blipFill>
          <a:blip r:embed="rId2"/>
          <a:stretch/>
        </p:blipFill>
        <p:spPr>
          <a:xfrm rot="20289000">
            <a:off x="6784560" y="4617720"/>
            <a:ext cx="2117880" cy="1708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ee full size image"/>
          <p:cNvPicPr/>
          <p:nvPr/>
        </p:nvPicPr>
        <p:blipFill>
          <a:blip r:embed="rId3"/>
          <a:stretch/>
        </p:blipFill>
        <p:spPr>
          <a:xfrm>
            <a:off x="4572000" y="2714760"/>
            <a:ext cx="1339920" cy="1785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http://shakespeare.learnhub.com/lesson/pages/5169-macbeth-act-five-scene-four/photos/13620-medium.jpg"/>
          <p:cNvPicPr/>
          <p:nvPr/>
        </p:nvPicPr>
        <p:blipFill>
          <a:blip r:embed="rId4"/>
          <a:stretch/>
        </p:blipFill>
        <p:spPr>
          <a:xfrm>
            <a:off x="4429080" y="5643720"/>
            <a:ext cx="1257480" cy="836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B024414.jpg"/>
          <p:cNvPicPr/>
          <p:nvPr/>
        </p:nvPicPr>
        <p:blipFill>
          <a:blip r:embed="rId5"/>
          <a:stretch/>
        </p:blipFill>
        <p:spPr>
          <a:xfrm rot="622800">
            <a:off x="7715160" y="31431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Title 1"/>
          <p:cNvGrpSpPr/>
          <p:nvPr/>
        </p:nvGrpSpPr>
        <p:grpSpPr>
          <a:xfrm>
            <a:off x="219240" y="262080"/>
            <a:ext cx="4140000" cy="1170000"/>
            <a:chOff x="219240" y="262080"/>
            <a:chExt cx="4140000" cy="1170000"/>
          </a:xfrm>
        </p:grpSpPr>
        <p:pic>
          <p:nvPicPr>
            <p:cNvPr id="313" name="Title 1" descr=""/>
            <p:cNvPicPr/>
            <p:nvPr/>
          </p:nvPicPr>
          <p:blipFill>
            <a:blip r:embed="rId1"/>
            <a:stretch/>
          </p:blipFill>
          <p:spPr>
            <a:xfrm>
              <a:off x="219240" y="262080"/>
              <a:ext cx="414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28600" y="274680"/>
              <a:ext cx="4114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Poetry &amp; IC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3049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poems created in word - "paw through popular culture like sculptors on trash heaps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poems with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cast po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http://www.ebatesville.com/library/poetry.jpg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000" y="152280"/>
            <a:ext cx="4176720" cy="8654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Calibri"/>
              </a:rPr>
              <a:t>Rhetor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Youtube: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enry V’s Saint Crispin’s Day Spee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amp; Barack Obama’s victory spe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dcas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iginal soliloqu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udacity/Garage Band/Adobe Soundbooth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tical commentary on a soliloqu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10" descr="http://i.dailymail.co.uk/i/pix/2008/10/26/article-1080764-02419940000005DC-221_468x380.jpg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http://www1.pictures.gi.zimbio.com/Barack+Obama+Campaigns+Mississippi+Ahead+State+6UBC3SH_P1Ul.jpg"/>
          <p:cNvPicPr/>
          <p:nvPr/>
        </p:nvPicPr>
        <p:blipFill>
          <a:blip r:embed="rId2"/>
          <a:stretch/>
        </p:blipFill>
        <p:spPr>
          <a:xfrm>
            <a:off x="4694400" y="3643200"/>
            <a:ext cx="4449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572000" cy="8654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Calibri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4960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Textual intervention: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sert comments and track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Play script: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ttp://celtx.com/  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bs.org/shakespeare/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omputer game: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lash animation or Kahoo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Flash Tal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reamingmethods.com/archive.ht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essay.png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045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iki Book Club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key issues concerning creativity is the ability to explore multiple ideas quickly. A wiki allows a learner to quickly post an idea and let other people comment o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4419720" cy="113976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Creativity through Literature - </a:t>
            </a:r>
            <a:r>
              <a:rPr b="1" i="1" lang="en-AU" sz="29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4" descr="http://www.wakefield.gov.uk/NR/rdonlyres/EF0F1C1B-4B1A-4ED6-A7E9-F1656C4F60A2/0/Fowler_JaneAustenBookClub.jpg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4419360" cy="1245960"/>
          </a:xfrm>
          <a:prstGeom prst="rect">
            <a:avLst/>
          </a:prstGeom>
          <a:gradFill rotWithShape="0">
            <a:gsLst>
              <a:gs pos="0">
                <a:srgbClr val="717e8e"/>
              </a:gs>
              <a:gs pos="100000">
                <a:srgbClr val="c3d9f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reativity through Literature </a:t>
            </a:r>
            <a:br>
              <a:rPr sz="2800"/>
            </a:br>
            <a:r>
              <a:rPr b="1" i="1" lang="en-AU" sz="2800" spc="-1" strike="noStrike">
                <a:solidFill>
                  <a:srgbClr val="000000"/>
                </a:solidFill>
                <a:latin typeface="Calibri"/>
              </a:rPr>
              <a:t>Contextua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28600" y="17521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Google Lit Trip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lore novel, play or poetry settings or go on a qu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d images, commentary and key quo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ate a unique Lit Trip for an original story, play or poem - http://www.googlelittrips.org/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5" descr="http://www.bikerwolf.com/098.jpg"/>
          <p:cNvPicPr/>
          <p:nvPr/>
        </p:nvPicPr>
        <p:blipFill>
          <a:blip r:embed="rId1"/>
          <a:stretch/>
        </p:blipFill>
        <p:spPr>
          <a:xfrm>
            <a:off x="4915080" y="0"/>
            <a:ext cx="422892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4952880" y="1522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by Abb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http://www.draculas.info/_img/gallery/dracula_book_cover_1902_doubleday_89.jpg"/>
          <p:cNvPicPr/>
          <p:nvPr/>
        </p:nvPicPr>
        <p:blipFill>
          <a:blip r:embed="rId2"/>
          <a:stretch/>
        </p:blipFill>
        <p:spPr>
          <a:xfrm rot="20931600">
            <a:off x="4833720" y="4305240"/>
            <a:ext cx="1385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3733560" cy="792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ritical Refl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vites a deeper understanding of the ideas and content of a subject and promotes greater self-awareness of skills and knowledg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Digital Portfolio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Wikis and Blog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odcast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11" descr="mirror-self-reflection-image"/>
          <p:cNvPicPr/>
          <p:nvPr/>
        </p:nvPicPr>
        <p:blipFill>
          <a:blip r:embed="rId1"/>
          <a:stretch/>
        </p:blipFill>
        <p:spPr>
          <a:xfrm>
            <a:off x="4200480" y="0"/>
            <a:ext cx="49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digital.GIF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92000"/>
          </a:xfrm>
          <a:prstGeom prst="rect">
            <a:avLst/>
          </a:prstGeom>
          <a:solidFill>
            <a:srgbClr val="a9d7f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IC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426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oday’s digital kids think of information and communications technology (ICT) as something akin to oxygen:  They expect it, it’s what they breathe, and it’s how they live;  They use ICT to meet, play, date, and learn;  It’s an integral part of their social life;   It’s how they acknowledge each other and form their personal identities’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John Seely-Brow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arning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Students often find it difficult to maintain balance between the design and technology aspects of the creative learning process. Technology can become an obstacle to learning, especially when a student is first exposed to a new and/or novel technology. The student may become too focused on the technology and neglect the need for developing creative ideas…creativity drives technology” (Mohl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534520" cy="868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ar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echnology does not directly change teaching or learning. Rather, the critical element is how technology is incorporated into instruction”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Bracewell and Faferriere (199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 can connect with our students by incorporating technology in assessm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716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2f2f2"/>
                </a:solidFill>
                <a:latin typeface="Calibri"/>
              </a:rPr>
              <a:t>The Resear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486400" cy="5486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yle and Colvin’s research concludes that the brain is phenomenally plastic, and that we construct ourselves through behaviour. As Coyle observes, it’s not who you are, it’s what you 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ttie &amp; Dinham’s research attests to the significance of direct instruction and scaffolding the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reativity is connected to what is already 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ight Arrow 4"/>
          <p:cNvSpPr/>
          <p:nvPr/>
        </p:nvSpPr>
        <p:spPr>
          <a:xfrm>
            <a:off x="5105520" y="3657600"/>
            <a:ext cx="13716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6629400" y="1295280"/>
            <a:ext cx="2209680" cy="497268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ry Creativity &amp;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ep knowledge &amp; deep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grate problematic knowledge and include student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cess first then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reate the environment for crea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0:31:57Z</dcterms:created>
  <dc:creator>Karen Yager</dc:creator>
  <dc:description/>
  <dc:language>en-US</dc:language>
  <cp:lastModifiedBy>Microhire</cp:lastModifiedBy>
  <dcterms:modified xsi:type="dcterms:W3CDTF">2009-07-10T20:20:38Z</dcterms:modified>
  <cp:revision>144</cp:revision>
  <dc:subject/>
  <dc:title>Imaginative Engagement</dc:title>
</cp:coreProperties>
</file>